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1599-2AA6-4884-A46B-0D797B00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AD3D-7E3F-4868-B1CD-A21A97A12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3DD4-1D4E-4906-8AA9-B5C96282F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8D90-B0A1-4E7A-B3BF-CCEEC4437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6A756-5D41-43D6-BAFD-1AE3F4832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152F6-CD7A-49B3-8796-652915232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CC40-B889-4611-B3DB-ECAA608D4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6DBFC-905A-43F1-BE10-77E24C10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EF31A-477D-4E86-8C99-3FCEF469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BF421-7813-4747-90B2-747F7F27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8909-15E6-4036-B640-3026F33E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18F1-ABCB-4F07-A854-B483DE7B0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017D6-C29A-4056-B097-F76CE186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24DD-2E19-482A-8A3E-8DD7EC60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46AE6-AF77-41DD-876A-5DBFB08D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50D4C-92CA-49A8-851C-92BAFDAB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264F-6DBC-4B04-A2DF-31CBD1E0F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C513-8BBA-4725-B71D-324D763E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733C-8354-4ECE-8454-AF4552867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7994-0B9B-4E8F-8270-849E0F1E2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970C-E2D8-440B-8BED-B0EF4505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3345-81A2-40F0-AC3A-46A545D0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EDF9-564D-4A97-9574-9A2A0A901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356F-FA2F-4983-A914-EEF69DB4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5A21-A0EF-4055-B7DE-BBCE722F6034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9F05-1262-49A0-843F-3362B0CCE165}" type="slidenum"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rrarangesnetwork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33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ra Range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Q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436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270828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Enhancing literacy and numeracy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utcomes through eLearning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Network wiki</a:t>
            </a:r>
            <a:br>
              <a:rPr sz="3800"/>
            </a:b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arrarangesnetwork.wikispaces.com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268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Meeting progra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13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lcome back; welcome to new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s and skills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paperwork: Participa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s - Meet same-level colleagues across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nership and Team formation for school based professiona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arning and planning for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Simon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twork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Ways we work togeth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97000"/>
            <a:ext cx="7129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with empathy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 shared sense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respectful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roblems constru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 judgements / keep an ope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diversity an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nd act with positive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stru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et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to enjoy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836640"/>
          <a:ext cx="849600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496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95280" y="6216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ost commonly requested areas at each level were selected for the Septemb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icipant form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720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QTP requirement that participants complete these forms – please complete and return to me before you leave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783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Introductions &amp; Think, Pair, Sh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n the taster sessions from our first meeting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ing Hills 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teracy with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umeracy with Esther H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, if any, ideas have you been able to implement with your class since this 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uccessful have they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/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n eLearning strategy or tool you have used recently with your class, commenting on your purpose and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your partner’s experience on a post-it note along with their name and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oup with like experiences on the butchers’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nership &amp; Team 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on of needs-based partnerships and teams to organise coaching, team-teaching and modelling /peer observation in our respecti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possible groupings at Level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780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IW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81360"/>
            <a:ext cx="148608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k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6268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d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5610240"/>
            <a:ext cx="1486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or / Sk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eLearning &amp; Planning for Tria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Simon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0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Literacy &amp; Numeracy Tool Refle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AGQTP Logo" descr=""/>
          <p:cNvPicPr/>
          <p:nvPr/>
        </p:nvPicPr>
        <p:blipFill>
          <a:blip r:embed="rId1"/>
          <a:stretch/>
        </p:blipFill>
        <p:spPr>
          <a:xfrm>
            <a:off x="615960" y="-6127920"/>
            <a:ext cx="1104840" cy="7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960" y="-4681440"/>
            <a:ext cx="708660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880" y="-6127920"/>
            <a:ext cx="128772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14520" y="-4579920"/>
            <a:ext cx="708660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-612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-612792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800" y="-5368320"/>
            <a:ext cx="490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ARRA RANGES AGQTP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Literacy and Numeracy Outcomes Through e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960" y="-468144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-4309560"/>
            <a:ext cx="4844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   Class Year Level: 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tool / eLearning strategy to try in your classr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5960" y="-3713040"/>
          <a:ext cx="6616800" cy="146052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 of the tool /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site address (if applicab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tp:/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plan to implement it within your literacy curriculu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expect it to support your students’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86080" y="-2199600"/>
            <a:ext cx="796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w that you have tried this tool / eLearning strategy, which literacy skills does this tool assist students to develop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40" y="12435840"/>
            <a:ext cx="636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you use this tool / strategy again? Give reasons for your 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odifications, if any, would you make to the integration of this tool / strategy into your progra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to other teac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840120" cy="534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88000" y="1197000"/>
            <a:ext cx="3987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3:47:22Z</dcterms:created>
  <dc:creator>02167970</dc:creator>
  <dc:description/>
  <dc:language>en-US</dc:language>
  <cp:lastModifiedBy>02167970</cp:lastModifiedBy>
  <dcterms:modified xsi:type="dcterms:W3CDTF">2009-09-09T03:01:14Z</dcterms:modified>
  <cp:revision>57</cp:revision>
  <dc:subject/>
  <dc:title>Enhancing literacy and numeracy outcomes through eLearning</dc:title>
</cp:coreProperties>
</file>